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836-5B69-4A99-A52C-9A066D20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7D4-460C-4D02-9D2C-1B9A8722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F58-4A84-4BDC-A6CC-509EDB85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667-60F7-400E-8A67-228B982A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13B6-FA27-4943-B6DD-370FADE4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EB5A-86E6-49FC-A38C-5956DFB2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E7E6-EECE-4F3A-8AFE-6436CFDA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8605-326B-4501-8A7B-048CF915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4267-EC30-4964-87D4-70F48AE5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B768-7C0C-4830-9FA9-92EAEA33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4B30-B84C-49E2-965B-FAC8CE1F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869-8DD8-46D9-90FA-404363C0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3CF6-EE65-49CC-9052-42A288A0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6E33-635E-4202-95D6-05772010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8106-174B-45EC-8622-A6F562A1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5555-6775-456D-9143-9B53CC32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42E0-24EF-4DBB-BC76-25E3EDE4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A20-867A-4A8E-B9A7-9ECA8A4D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368-282C-4484-8505-DFA592BC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791-DECD-4F6E-8FA0-049661BA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B99-9A43-4FDE-8671-75FE282C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F7C-C04D-49AD-8874-756B4694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9B5-70C0-4C08-B296-53F8A36B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507-44C3-4D47-8F01-ACC6EB6F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6B6A-1906-44DD-AE99-C8AF914466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2564-8D63-438B-9FD9-8E9229D0BA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rs. McCall’s Rules to a Happier Classroom. </a:t>
            </a:r>
            <a:r>
              <a:rPr b="1" lang="en-US" sz="36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y job is to teach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Your job is to learn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ul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ust be in your seat, ready to begin working on the board assignment when the bell ring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ul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ust have proper materials (books, pencils, paper, etc) Any homework assignments are due at the beginning of the period to the top tr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ule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ain silence during silent work perio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ule 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en at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7:00:07Z</dcterms:created>
  <dc:creator>rebecca</dc:creator>
  <dc:description/>
  <dc:language>en-US</dc:language>
  <cp:lastModifiedBy>rebecca</cp:lastModifiedBy>
  <dcterms:modified xsi:type="dcterms:W3CDTF">2009-05-15T17:40:43Z</dcterms:modified>
  <cp:revision>2</cp:revision>
  <dc:subject/>
  <dc:title>Mrs. McCall’s Rules to a Happier Classroom. </dc:title>
</cp:coreProperties>
</file>